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2.jpeg" ContentType="image/jpeg"/>
  <Override PartName="/ppt/media/image14.wmf" ContentType="image/x-wmf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627400" y="63118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17BF-0731-40AD-99D3-5731E7280F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7688160" y="6599160"/>
            <a:ext cx="145584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4"/>
          <p:cNvSpPr/>
          <p:nvPr/>
        </p:nvSpPr>
        <p:spPr>
          <a:xfrm>
            <a:off x="2092320" y="2360520"/>
            <a:ext cx="0" cy="38959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roscop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70160" y="2590920"/>
            <a:ext cx="6873840" cy="1289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Aircraft Auto Pilot Roll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Control System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p/Down(Pitch) motion of aircraft by Elev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0" name="Picture 4" descr="Aptch"/>
          <p:cNvPicPr/>
          <p:nvPr/>
        </p:nvPicPr>
        <p:blipFill>
          <a:blip r:embed="rId1"/>
          <a:stretch/>
        </p:blipFill>
        <p:spPr>
          <a:xfrm>
            <a:off x="1066680" y="1233360"/>
            <a:ext cx="708660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lock Diagram Of ROLL Angle control of AUTOPILO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4800600" y="6248520"/>
            <a:ext cx="9907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2590920" y="2362320"/>
            <a:ext cx="8380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1756440" y="297180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3240" y="198108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1800" y="29718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8512200" y="281952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8077320" y="1981080"/>
            <a:ext cx="7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7"/>
          <p:cNvSpPr/>
          <p:nvPr/>
        </p:nvSpPr>
        <p:spPr>
          <a:xfrm>
            <a:off x="4952880" y="640080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2743200" y="2514600"/>
            <a:ext cx="838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908720" y="312408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155520" y="21337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154080" y="31240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8664480" y="29718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8229600" y="213372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4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991720" cy="487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5"/>
          <p:cNvSpPr/>
          <p:nvPr/>
        </p:nvSpPr>
        <p:spPr>
          <a:xfrm>
            <a:off x="5029200" y="6436800"/>
            <a:ext cx="990720" cy="38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2971800" y="25909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3124080" y="2590920"/>
            <a:ext cx="3348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0" y="29718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-17280" y="2835360"/>
            <a:ext cx="8042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-2520" y="1905120"/>
            <a:ext cx="1765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red Ba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2743200" y="32004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1839240" y="3063960"/>
            <a:ext cx="18223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8433360" y="2911320"/>
            <a:ext cx="662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8381880" y="21337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7924680" y="2057400"/>
            <a:ext cx="12193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ircraft roll control provides the components &amp; functions inclu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 actuator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r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ileron actu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tor is the device that cause the process to provide the outpu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the Aileron Actuator is the device which cause the movement of ailer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762120" y="609480"/>
          <a:ext cx="7619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619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ilerons are used to bank the aircraft; to cause one wing tip to move up and the other wing tip to move down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he Ailerons always move in opposite to each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ing the aileron on one wing raises the aileron on the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ing with the lowered aileron rises because of its increase lift, and the wing with the raised aileron moves downward because of its decreased lif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le which is generated by the movement of Ailerons is called as Roll Ang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 is defined as a rotation about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axis, or longitudinal axis, of a flying vehic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549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Gyro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SENSE WHAT AIRPLANE IS DO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 Gyro(Heading Indicator) is used in an  aircraft to inform the pilot of his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hea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 works using a </a:t>
            </a:r>
            <a:r>
              <a:rPr b="1" lang="en-US" sz="2800" spc="-1" strike="noStrike" u="sng">
                <a:solidFill>
                  <a:srgbClr val="860086"/>
                </a:solidFill>
                <a:uFillTx/>
                <a:latin typeface="Arial"/>
                <a:hlinkClick r:id="rId1"/>
              </a:rPr>
              <a:t>gyrosco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ied to the aircraft horizontal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Out Lin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ntrol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80px-C172_heading_indicator"/>
          <p:cNvPicPr/>
          <p:nvPr/>
        </p:nvPicPr>
        <p:blipFill>
          <a:blip r:embed="rId1"/>
          <a:stretch/>
        </p:blipFill>
        <p:spPr>
          <a:xfrm>
            <a:off x="1905120" y="838080"/>
            <a:ext cx="53337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rCraft Dynamic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dynamics is the science of air and space vehicle orientation and control in three dimensi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 uses for determination of th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ircraft at some arbitrary tim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imulink Diagra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esponse of 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685800" y="1049400"/>
            <a:ext cx="7772400" cy="51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dvantag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system reduce the work strain of pilo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roll controlling reduces the fatigue  of controlling the aircraft in flight by the pil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pplicati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used in the auto missiles to control the roll angl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an be used in almost every aircraft for auto pilot controlling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icture3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pilot is a system of automatic controls  which holds the aircraft on any selected magnetic head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project our goal is to control the roll angle of the aircraft in the auto pilot system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ain flight Control Syste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craft is controlled by three main surfa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ENABLE THE PILOT TO EXERCISE CONTROL OVER THE AIRCRAFT DURING ALLL PORTIONS OF FL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LER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7" name="Picture 4" descr="250px-Wing"/>
          <p:cNvPicPr/>
          <p:nvPr/>
        </p:nvPicPr>
        <p:blipFill>
          <a:blip r:embed="rId1"/>
          <a:stretch/>
        </p:blipFill>
        <p:spPr>
          <a:xfrm>
            <a:off x="5635800" y="1523880"/>
            <a:ext cx="3508200" cy="4407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28600" y="1600200"/>
            <a:ext cx="548640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lerons are one of three primary flight control surfaces found on aircraft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mall hinged sections on the outboard portion of a w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ovable surfaces that control movement about the longitudinal axis--called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o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lerons can be used to generate a </a:t>
            </a:r>
            <a:r>
              <a:rPr b="0" lang="en-US" sz="2800" spc="-1" strike="noStrike" u="sng">
                <a:solidFill>
                  <a:srgbClr val="860086"/>
                </a:solidFill>
                <a:uFillTx/>
                <a:latin typeface="Arial"/>
                <a:hlinkClick r:id="rId2"/>
              </a:rPr>
              <a:t>rolling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ll motion of Aircraft by Ailer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0" name="Picture 4" descr="Aileron_roll"/>
          <p:cNvPicPr/>
          <p:nvPr/>
        </p:nvPicPr>
        <p:blipFill>
          <a:blip r:embed="rId1"/>
          <a:stretch/>
        </p:blipFill>
        <p:spPr>
          <a:xfrm>
            <a:off x="838080" y="826920"/>
            <a:ext cx="7315200" cy="5784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UDDER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2" name="Picture 4" descr="250px-Stabilizer"/>
          <p:cNvPicPr/>
          <p:nvPr/>
        </p:nvPicPr>
        <p:blipFill>
          <a:blip r:embed="rId1"/>
          <a:stretch/>
        </p:blipFill>
        <p:spPr>
          <a:xfrm>
            <a:off x="5626080" y="1400040"/>
            <a:ext cx="3517920" cy="40100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04920" y="1523880"/>
            <a:ext cx="52578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trailing edge of the vertical stabilizer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rol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left/right sliding movements of the airc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real aircraft, this is controlled by the foot ped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shes the left pedal, the rudder deflects left. Pushing the right pedal causes the rudder to deflect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Left/Right(YAW)  Motion by Rudde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5" name="Picture 4" descr="Ayaw"/>
          <p:cNvPicPr/>
          <p:nvPr/>
        </p:nvPicPr>
        <p:blipFill>
          <a:blip r:embed="rId1"/>
          <a:stretch/>
        </p:blipFill>
        <p:spPr>
          <a:xfrm>
            <a:off x="990720" y="793800"/>
            <a:ext cx="701028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Elevator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7" name="Picture 4" descr="250px-Stabilizer"/>
          <p:cNvPicPr/>
          <p:nvPr/>
        </p:nvPicPr>
        <p:blipFill>
          <a:blip r:embed="rId1"/>
          <a:stretch/>
        </p:blipFill>
        <p:spPr>
          <a:xfrm>
            <a:off x="5535720" y="1523880"/>
            <a:ext cx="3608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28600" y="1447920"/>
            <a:ext cx="46483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vator is on the tail of the aircraft, moving the elevator causes the nose of the aircraft to go up or down, allowing the aircraft to climb or descen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ors control the up/down motion of aircraft that is called as pit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lls the stick backward, the elevators go up. Pushing the stick forward causes the elevators to go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0:26:26Z</dcterms:created>
  <dc:creator>Mechanical Engineering Project</dc:creator>
  <dc:description/>
  <dc:language>en-US</dc:language>
  <cp:lastModifiedBy>Brigade</cp:lastModifiedBy>
  <cp:lastPrinted>2000-02-21T20:05:39Z</cp:lastPrinted>
  <dcterms:modified xsi:type="dcterms:W3CDTF">2011-08-16T06:20:02Z</dcterms:modified>
  <cp:revision>1</cp:revision>
  <dc:subject/>
  <dc:title>Mechanical Engineering Project</dc:title>
</cp:coreProperties>
</file>